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CBF30B6B-7A88-48DB-8A56-814051B9DA50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772B82AC-6B5C-4639-BF61-EFE1DBAD72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 2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208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65/75 Relau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Product Fit improvement mea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, Volume,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. Remerie, W. Klebsch, U. Sy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720" y="22536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190520"/>
          <a:ext cx="8702640" cy="5313600"/>
        </p:xfrm>
        <a:graphic>
          <a:graphicData uri="http://schemas.openxmlformats.org/drawingml/2006/table">
            <a:tbl>
              <a:tblPr/>
              <a:tblGrid>
                <a:gridCol w="1131840"/>
                <a:gridCol w="2244600"/>
                <a:gridCol w="1668600"/>
                <a:gridCol w="2352600"/>
                <a:gridCol w="130500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take 3k in December, possibly 2k in Janu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 setup is not f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must create vari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wanss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w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iscussing with opera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samples CW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.K. 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ordered 1k, no information if further quantities are to ex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custom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feedback regarding volumes expected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Wolfgang Beuschle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önnerh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tel, Slov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 5k order due to timeline, new try in January 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Petra Ullman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cell, 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elda Ya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reported interest, will receive new samples in Nov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ceive new samples in CW 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, potential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Jac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I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1000" y="1398600"/>
          <a:ext cx="8356320" cy="4281480"/>
        </p:xfrm>
        <a:graphic>
          <a:graphicData uri="http://schemas.openxmlformats.org/drawingml/2006/table">
            <a:tbl>
              <a:tblPr/>
              <a:tblGrid>
                <a:gridCol w="1122120"/>
                <a:gridCol w="2187720"/>
                <a:gridCol w="1971720"/>
                <a:gridCol w="1912680"/>
                <a:gridCol w="1162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, Isra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Lior ben A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 / Lett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Dietmar Le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sell Emoty online shop newsletter in 12/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o sell Emoty online pen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Thibaud No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terest before this fall, no news in the last mont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if interest exi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contac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280" y="353880"/>
            <a:ext cx="72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G65 – Push and Talk (PaT)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9000" y="1303200"/>
          <a:ext cx="8623080" cy="5151600"/>
        </p:xfrm>
        <a:graphic>
          <a:graphicData uri="http://schemas.openxmlformats.org/drawingml/2006/table">
            <a:tbl>
              <a:tblPr/>
              <a:tblGrid>
                <a:gridCol w="1218960"/>
                <a:gridCol w="928800"/>
                <a:gridCol w="914400"/>
                <a:gridCol w="885960"/>
                <a:gridCol w="914400"/>
                <a:gridCol w="942840"/>
                <a:gridCol w="987480"/>
                <a:gridCol w="985680"/>
                <a:gridCol w="844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/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 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/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 detailed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Q: N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iting for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G08 not ye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rove availability of LG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avarro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schmo-neit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 to be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test devices nece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s to be hand-carried to Peru: clarify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2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mo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will start earliest in Jan 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ing issues un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situation with local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cel Me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depending on CX70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X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: waiting for results from Motorola PoC I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lear timeline for IO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in touch with Mexico and clarify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6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24160" y="1305000"/>
            <a:ext cx="34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70/CT70/C71/CT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13302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70/CXT70/CX71/CXT71/M65/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71400" y="293688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e 7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ments for SG2 Platfo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en75: Minos, Virgo, Taurus, Hyd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920" y="1371600"/>
          <a:ext cx="872316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371600"/>
                    <a:ext cx="87231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3800" y="150804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dependency on external deliv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2600" y="2546280"/>
            <a:ext cx="57578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180000" bIns="180000" anchor="ctr">
            <a:noAutofit/>
          </a:bodyPr>
          <a:p>
            <a:pPr marL="457200" indent="-457200">
              <a:lnSpc>
                <a:spcPts val="1599"/>
              </a:lnSpc>
              <a:spcBef>
                <a:spcPts val="1599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OpenWave 7.2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Early stabilization of Vodafone specs (esp. for LiveC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Packet Video Player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ATI chipset and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Comneon deliveries for BT and P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2546280"/>
            <a:ext cx="1170000" cy="25192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680" y="3222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75: SG2 Software Platform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0400" y="5734080"/>
            <a:ext cx="2163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-63360"/>
            <a:ext cx="7350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G2 Release1 SWC components and Platform 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10520" y="1341360"/>
            <a:ext cx="0" cy="5218920"/>
            <a:chOff x="7310520" y="1341360"/>
            <a:chExt cx="0" cy="5218920"/>
          </a:xfrm>
        </p:grpSpPr>
        <p:sp>
          <p:nvSpPr>
            <p:cNvPr id="142" name=""/>
            <p:cNvSpPr/>
            <p:nvPr/>
          </p:nvSpPr>
          <p:spPr>
            <a:xfrm>
              <a:off x="7310520" y="15976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0520" y="13413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6320" y="185580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3321000"/>
            <a:ext cx="209376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IDC: C3 = 29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000" y="1852560"/>
            <a:ext cx="1983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" y="421956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va: C3 = 2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1000" y="1662120"/>
            <a:ext cx="10303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240" y="4659480"/>
            <a:ext cx="2093760" cy="18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Browser: C3 = 3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3782880"/>
            <a:ext cx="19980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7160" y="1328760"/>
            <a:ext cx="0" cy="5218920"/>
            <a:chOff x="227160" y="1328760"/>
            <a:chExt cx="0" cy="5218920"/>
          </a:xfrm>
        </p:grpSpPr>
        <p:sp>
          <p:nvSpPr>
            <p:cNvPr id="152" name=""/>
            <p:cNvSpPr/>
            <p:nvPr/>
          </p:nvSpPr>
          <p:spPr>
            <a:xfrm>
              <a:off x="2271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8108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440" y="1328760"/>
            <a:ext cx="0" cy="5218920"/>
            <a:chOff x="433440" y="1328760"/>
            <a:chExt cx="0" cy="5218920"/>
          </a:xfrm>
        </p:grpSpPr>
        <p:sp>
          <p:nvSpPr>
            <p:cNvPr id="156" name=""/>
            <p:cNvSpPr/>
            <p:nvPr/>
          </p:nvSpPr>
          <p:spPr>
            <a:xfrm>
              <a:off x="4334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4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960" y="1328760"/>
            <a:ext cx="0" cy="5218920"/>
            <a:chOff x="642960" y="1328760"/>
            <a:chExt cx="0" cy="5218920"/>
          </a:xfrm>
        </p:grpSpPr>
        <p:sp>
          <p:nvSpPr>
            <p:cNvPr id="159" name=""/>
            <p:cNvSpPr/>
            <p:nvPr/>
          </p:nvSpPr>
          <p:spPr>
            <a:xfrm>
              <a:off x="642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51040" y="1328760"/>
            <a:ext cx="0" cy="5218920"/>
            <a:chOff x="851040" y="1328760"/>
            <a:chExt cx="0" cy="5218920"/>
          </a:xfrm>
        </p:grpSpPr>
        <p:sp>
          <p:nvSpPr>
            <p:cNvPr id="162" name=""/>
            <p:cNvSpPr/>
            <p:nvPr/>
          </p:nvSpPr>
          <p:spPr>
            <a:xfrm>
              <a:off x="8510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0560" y="1328760"/>
            <a:ext cx="0" cy="5218920"/>
            <a:chOff x="1060560" y="1328760"/>
            <a:chExt cx="0" cy="5218920"/>
          </a:xfrm>
        </p:grpSpPr>
        <p:sp>
          <p:nvSpPr>
            <p:cNvPr id="165" name=""/>
            <p:cNvSpPr/>
            <p:nvPr/>
          </p:nvSpPr>
          <p:spPr>
            <a:xfrm>
              <a:off x="1060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68280" y="1328760"/>
            <a:ext cx="0" cy="5218920"/>
            <a:chOff x="1268280" y="1328760"/>
            <a:chExt cx="0" cy="5218920"/>
          </a:xfrm>
        </p:grpSpPr>
        <p:sp>
          <p:nvSpPr>
            <p:cNvPr id="168" name=""/>
            <p:cNvSpPr/>
            <p:nvPr/>
          </p:nvSpPr>
          <p:spPr>
            <a:xfrm>
              <a:off x="1268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8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76360" y="1328760"/>
            <a:ext cx="0" cy="5218920"/>
            <a:chOff x="1476360" y="1328760"/>
            <a:chExt cx="0" cy="5218920"/>
          </a:xfrm>
        </p:grpSpPr>
        <p:sp>
          <p:nvSpPr>
            <p:cNvPr id="171" name=""/>
            <p:cNvSpPr/>
            <p:nvPr/>
          </p:nvSpPr>
          <p:spPr>
            <a:xfrm>
              <a:off x="1476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85880" y="1328760"/>
            <a:ext cx="0" cy="5218920"/>
            <a:chOff x="1685880" y="1328760"/>
            <a:chExt cx="0" cy="5218920"/>
          </a:xfrm>
        </p:grpSpPr>
        <p:sp>
          <p:nvSpPr>
            <p:cNvPr id="174" name=""/>
            <p:cNvSpPr/>
            <p:nvPr/>
          </p:nvSpPr>
          <p:spPr>
            <a:xfrm>
              <a:off x="1685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5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1328760"/>
            <a:ext cx="0" cy="5218920"/>
            <a:chOff x="1893960" y="1328760"/>
            <a:chExt cx="0" cy="5218920"/>
          </a:xfrm>
        </p:grpSpPr>
        <p:sp>
          <p:nvSpPr>
            <p:cNvPr id="177" name=""/>
            <p:cNvSpPr/>
            <p:nvPr/>
          </p:nvSpPr>
          <p:spPr>
            <a:xfrm>
              <a:off x="1893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3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03480" y="1328760"/>
            <a:ext cx="0" cy="5218920"/>
            <a:chOff x="2103480" y="1328760"/>
            <a:chExt cx="0" cy="5218920"/>
          </a:xfrm>
        </p:grpSpPr>
        <p:sp>
          <p:nvSpPr>
            <p:cNvPr id="180" name=""/>
            <p:cNvSpPr/>
            <p:nvPr/>
          </p:nvSpPr>
          <p:spPr>
            <a:xfrm>
              <a:off x="2103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3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11560" y="1328760"/>
            <a:ext cx="0" cy="5218920"/>
            <a:chOff x="2311560" y="1328760"/>
            <a:chExt cx="0" cy="5218920"/>
          </a:xfrm>
        </p:grpSpPr>
        <p:sp>
          <p:nvSpPr>
            <p:cNvPr id="183" name=""/>
            <p:cNvSpPr/>
            <p:nvPr/>
          </p:nvSpPr>
          <p:spPr>
            <a:xfrm>
              <a:off x="2311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9280" y="1328760"/>
            <a:ext cx="0" cy="5218920"/>
            <a:chOff x="2519280" y="1328760"/>
            <a:chExt cx="0" cy="5218920"/>
          </a:xfrm>
        </p:grpSpPr>
        <p:sp>
          <p:nvSpPr>
            <p:cNvPr id="186" name=""/>
            <p:cNvSpPr/>
            <p:nvPr/>
          </p:nvSpPr>
          <p:spPr>
            <a:xfrm>
              <a:off x="2519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9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27360" y="1328760"/>
            <a:ext cx="0" cy="5218920"/>
            <a:chOff x="2727360" y="1328760"/>
            <a:chExt cx="0" cy="5218920"/>
          </a:xfrm>
        </p:grpSpPr>
        <p:sp>
          <p:nvSpPr>
            <p:cNvPr id="189" name=""/>
            <p:cNvSpPr/>
            <p:nvPr/>
          </p:nvSpPr>
          <p:spPr>
            <a:xfrm>
              <a:off x="2727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7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36880" y="1328760"/>
            <a:ext cx="0" cy="5218920"/>
            <a:chOff x="2936880" y="1328760"/>
            <a:chExt cx="0" cy="5218920"/>
          </a:xfrm>
        </p:grpSpPr>
        <p:sp>
          <p:nvSpPr>
            <p:cNvPr id="192" name=""/>
            <p:cNvSpPr/>
            <p:nvPr/>
          </p:nvSpPr>
          <p:spPr>
            <a:xfrm>
              <a:off x="2936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6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4960" y="1328760"/>
            <a:ext cx="0" cy="5218920"/>
            <a:chOff x="3144960" y="1328760"/>
            <a:chExt cx="0" cy="5218920"/>
          </a:xfrm>
        </p:grpSpPr>
        <p:sp>
          <p:nvSpPr>
            <p:cNvPr id="195" name=""/>
            <p:cNvSpPr/>
            <p:nvPr/>
          </p:nvSpPr>
          <p:spPr>
            <a:xfrm>
              <a:off x="3144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4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52680" y="1328760"/>
            <a:ext cx="0" cy="5218920"/>
            <a:chOff x="3352680" y="1328760"/>
            <a:chExt cx="0" cy="5218920"/>
          </a:xfrm>
        </p:grpSpPr>
        <p:sp>
          <p:nvSpPr>
            <p:cNvPr id="198" name=""/>
            <p:cNvSpPr/>
            <p:nvPr/>
          </p:nvSpPr>
          <p:spPr>
            <a:xfrm>
              <a:off x="3352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562200" y="1328760"/>
            <a:ext cx="0" cy="5218920"/>
            <a:chOff x="3562200" y="1328760"/>
            <a:chExt cx="0" cy="5218920"/>
          </a:xfrm>
        </p:grpSpPr>
        <p:sp>
          <p:nvSpPr>
            <p:cNvPr id="201" name=""/>
            <p:cNvSpPr/>
            <p:nvPr/>
          </p:nvSpPr>
          <p:spPr>
            <a:xfrm>
              <a:off x="3562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06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83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82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4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3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16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9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8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6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4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2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0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9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72080" y="1330200"/>
            <a:ext cx="0" cy="5219280"/>
            <a:chOff x="3772080" y="1330200"/>
            <a:chExt cx="0" cy="5219280"/>
          </a:xfrm>
        </p:grpSpPr>
        <p:sp>
          <p:nvSpPr>
            <p:cNvPr id="220" name=""/>
            <p:cNvSpPr/>
            <p:nvPr/>
          </p:nvSpPr>
          <p:spPr>
            <a:xfrm>
              <a:off x="37720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9800" y="1330200"/>
            <a:ext cx="0" cy="5219280"/>
            <a:chOff x="3979800" y="1330200"/>
            <a:chExt cx="0" cy="5219280"/>
          </a:xfrm>
        </p:grpSpPr>
        <p:sp>
          <p:nvSpPr>
            <p:cNvPr id="223" name=""/>
            <p:cNvSpPr/>
            <p:nvPr/>
          </p:nvSpPr>
          <p:spPr>
            <a:xfrm>
              <a:off x="39798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98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87880" y="1330200"/>
            <a:ext cx="0" cy="5219280"/>
            <a:chOff x="4187880" y="1330200"/>
            <a:chExt cx="0" cy="5219280"/>
          </a:xfrm>
        </p:grpSpPr>
        <p:sp>
          <p:nvSpPr>
            <p:cNvPr id="226" name=""/>
            <p:cNvSpPr/>
            <p:nvPr/>
          </p:nvSpPr>
          <p:spPr>
            <a:xfrm>
              <a:off x="41878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78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97400" y="1330200"/>
            <a:ext cx="0" cy="5219280"/>
            <a:chOff x="4397400" y="1330200"/>
            <a:chExt cx="0" cy="5219280"/>
          </a:xfrm>
        </p:grpSpPr>
        <p:sp>
          <p:nvSpPr>
            <p:cNvPr id="229" name=""/>
            <p:cNvSpPr/>
            <p:nvPr/>
          </p:nvSpPr>
          <p:spPr>
            <a:xfrm>
              <a:off x="43974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74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05480" y="1330200"/>
            <a:ext cx="0" cy="5219280"/>
            <a:chOff x="4605480" y="1330200"/>
            <a:chExt cx="0" cy="5219280"/>
          </a:xfrm>
        </p:grpSpPr>
        <p:sp>
          <p:nvSpPr>
            <p:cNvPr id="232" name=""/>
            <p:cNvSpPr/>
            <p:nvPr/>
          </p:nvSpPr>
          <p:spPr>
            <a:xfrm>
              <a:off x="46054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54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274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552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50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27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99000" y="1328760"/>
            <a:ext cx="0" cy="5218920"/>
            <a:chOff x="4599000" y="1328760"/>
            <a:chExt cx="0" cy="5218920"/>
          </a:xfrm>
        </p:grpSpPr>
        <p:sp>
          <p:nvSpPr>
            <p:cNvPr id="239" name=""/>
            <p:cNvSpPr/>
            <p:nvPr/>
          </p:nvSpPr>
          <p:spPr>
            <a:xfrm>
              <a:off x="45990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90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148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05280" y="1328760"/>
            <a:ext cx="0" cy="5218920"/>
            <a:chOff x="4805280" y="1328760"/>
            <a:chExt cx="0" cy="5218920"/>
          </a:xfrm>
        </p:grpSpPr>
        <p:sp>
          <p:nvSpPr>
            <p:cNvPr id="243" name=""/>
            <p:cNvSpPr/>
            <p:nvPr/>
          </p:nvSpPr>
          <p:spPr>
            <a:xfrm>
              <a:off x="4805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5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14800" y="1328760"/>
            <a:ext cx="0" cy="5218920"/>
            <a:chOff x="5014800" y="1328760"/>
            <a:chExt cx="0" cy="5218920"/>
          </a:xfrm>
        </p:grpSpPr>
        <p:sp>
          <p:nvSpPr>
            <p:cNvPr id="246" name=""/>
            <p:cNvSpPr/>
            <p:nvPr/>
          </p:nvSpPr>
          <p:spPr>
            <a:xfrm>
              <a:off x="50148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48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22880" y="1328760"/>
            <a:ext cx="0" cy="5218920"/>
            <a:chOff x="5222880" y="1328760"/>
            <a:chExt cx="0" cy="5218920"/>
          </a:xfrm>
        </p:grpSpPr>
        <p:sp>
          <p:nvSpPr>
            <p:cNvPr id="249" name=""/>
            <p:cNvSpPr/>
            <p:nvPr/>
          </p:nvSpPr>
          <p:spPr>
            <a:xfrm>
              <a:off x="5222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2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32400" y="1328760"/>
            <a:ext cx="0" cy="5218920"/>
            <a:chOff x="5432400" y="1328760"/>
            <a:chExt cx="0" cy="5218920"/>
          </a:xfrm>
        </p:grpSpPr>
        <p:sp>
          <p:nvSpPr>
            <p:cNvPr id="252" name=""/>
            <p:cNvSpPr/>
            <p:nvPr/>
          </p:nvSpPr>
          <p:spPr>
            <a:xfrm>
              <a:off x="5432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2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40480" y="1328760"/>
            <a:ext cx="0" cy="5218920"/>
            <a:chOff x="5640480" y="1328760"/>
            <a:chExt cx="0" cy="5218920"/>
          </a:xfrm>
        </p:grpSpPr>
        <p:sp>
          <p:nvSpPr>
            <p:cNvPr id="255" name=""/>
            <p:cNvSpPr/>
            <p:nvPr/>
          </p:nvSpPr>
          <p:spPr>
            <a:xfrm>
              <a:off x="5640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8200" y="1328760"/>
            <a:ext cx="0" cy="5218920"/>
            <a:chOff x="5848200" y="1328760"/>
            <a:chExt cx="0" cy="5218920"/>
          </a:xfrm>
        </p:grpSpPr>
        <p:sp>
          <p:nvSpPr>
            <p:cNvPr id="258" name=""/>
            <p:cNvSpPr/>
            <p:nvPr/>
          </p:nvSpPr>
          <p:spPr>
            <a:xfrm>
              <a:off x="5848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56280" y="1328760"/>
            <a:ext cx="0" cy="5218920"/>
            <a:chOff x="6056280" y="1328760"/>
            <a:chExt cx="0" cy="5218920"/>
          </a:xfrm>
        </p:grpSpPr>
        <p:sp>
          <p:nvSpPr>
            <p:cNvPr id="261" name=""/>
            <p:cNvSpPr/>
            <p:nvPr/>
          </p:nvSpPr>
          <p:spPr>
            <a:xfrm>
              <a:off x="6056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6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64360" y="1328760"/>
            <a:ext cx="0" cy="5218920"/>
            <a:chOff x="6264360" y="1328760"/>
            <a:chExt cx="0" cy="5218920"/>
          </a:xfrm>
        </p:grpSpPr>
        <p:sp>
          <p:nvSpPr>
            <p:cNvPr id="264" name=""/>
            <p:cNvSpPr/>
            <p:nvPr/>
          </p:nvSpPr>
          <p:spPr>
            <a:xfrm>
              <a:off x="6264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4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73880" y="1328760"/>
            <a:ext cx="0" cy="5218920"/>
            <a:chOff x="6473880" y="1328760"/>
            <a:chExt cx="0" cy="5218920"/>
          </a:xfrm>
        </p:grpSpPr>
        <p:sp>
          <p:nvSpPr>
            <p:cNvPr id="267" name=""/>
            <p:cNvSpPr/>
            <p:nvPr/>
          </p:nvSpPr>
          <p:spPr>
            <a:xfrm>
              <a:off x="6473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3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81960" y="1328760"/>
            <a:ext cx="0" cy="5218920"/>
            <a:chOff x="6681960" y="1328760"/>
            <a:chExt cx="0" cy="5218920"/>
          </a:xfrm>
        </p:grpSpPr>
        <p:sp>
          <p:nvSpPr>
            <p:cNvPr id="270" name=""/>
            <p:cNvSpPr/>
            <p:nvPr/>
          </p:nvSpPr>
          <p:spPr>
            <a:xfrm>
              <a:off x="6681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81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89680" y="1328760"/>
            <a:ext cx="0" cy="5218920"/>
            <a:chOff x="6889680" y="1328760"/>
            <a:chExt cx="0" cy="5218920"/>
          </a:xfrm>
        </p:grpSpPr>
        <p:sp>
          <p:nvSpPr>
            <p:cNvPr id="273" name=""/>
            <p:cNvSpPr/>
            <p:nvPr/>
          </p:nvSpPr>
          <p:spPr>
            <a:xfrm>
              <a:off x="6889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9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097760" y="1328760"/>
            <a:ext cx="0" cy="5218920"/>
            <a:chOff x="7097760" y="1328760"/>
            <a:chExt cx="0" cy="5218920"/>
          </a:xfrm>
        </p:grpSpPr>
        <p:sp>
          <p:nvSpPr>
            <p:cNvPr id="276" name=""/>
            <p:cNvSpPr/>
            <p:nvPr/>
          </p:nvSpPr>
          <p:spPr>
            <a:xfrm>
              <a:off x="70977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77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07280" y="1328760"/>
            <a:ext cx="0" cy="5218920"/>
            <a:chOff x="7307280" y="1328760"/>
            <a:chExt cx="0" cy="5218920"/>
          </a:xfrm>
        </p:grpSpPr>
        <p:sp>
          <p:nvSpPr>
            <p:cNvPr id="279" name=""/>
            <p:cNvSpPr/>
            <p:nvPr/>
          </p:nvSpPr>
          <p:spPr>
            <a:xfrm>
              <a:off x="7307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07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15360" y="1328760"/>
            <a:ext cx="0" cy="5218920"/>
            <a:chOff x="7515360" y="1328760"/>
            <a:chExt cx="0" cy="5218920"/>
          </a:xfrm>
        </p:grpSpPr>
        <p:sp>
          <p:nvSpPr>
            <p:cNvPr id="282" name=""/>
            <p:cNvSpPr/>
            <p:nvPr/>
          </p:nvSpPr>
          <p:spPr>
            <a:xfrm>
              <a:off x="7515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29560" y="1376280"/>
            <a:ext cx="0" cy="5218920"/>
            <a:chOff x="7729560" y="1376280"/>
            <a:chExt cx="0" cy="5218920"/>
          </a:xfrm>
        </p:grpSpPr>
        <p:sp>
          <p:nvSpPr>
            <p:cNvPr id="285" name=""/>
            <p:cNvSpPr/>
            <p:nvPr/>
          </p:nvSpPr>
          <p:spPr>
            <a:xfrm>
              <a:off x="7729560" y="163260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9560" y="137628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934400" y="1328760"/>
            <a:ext cx="0" cy="5218920"/>
            <a:chOff x="7934400" y="1328760"/>
            <a:chExt cx="0" cy="5218920"/>
          </a:xfrm>
        </p:grpSpPr>
        <p:sp>
          <p:nvSpPr>
            <p:cNvPr id="288" name=""/>
            <p:cNvSpPr/>
            <p:nvPr/>
          </p:nvSpPr>
          <p:spPr>
            <a:xfrm>
              <a:off x="7934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4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761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68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78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6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44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3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292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387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684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6444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2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0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976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43920" y="1330200"/>
            <a:ext cx="0" cy="5219280"/>
            <a:chOff x="8143920" y="1330200"/>
            <a:chExt cx="0" cy="5219280"/>
          </a:xfrm>
        </p:grpSpPr>
        <p:sp>
          <p:nvSpPr>
            <p:cNvPr id="307" name=""/>
            <p:cNvSpPr/>
            <p:nvPr/>
          </p:nvSpPr>
          <p:spPr>
            <a:xfrm>
              <a:off x="81439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439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0" y="1330200"/>
            <a:ext cx="0" cy="5219280"/>
            <a:chOff x="8352000" y="1330200"/>
            <a:chExt cx="0" cy="5219280"/>
          </a:xfrm>
        </p:grpSpPr>
        <p:sp>
          <p:nvSpPr>
            <p:cNvPr id="310" name=""/>
            <p:cNvSpPr/>
            <p:nvPr/>
          </p:nvSpPr>
          <p:spPr>
            <a:xfrm>
              <a:off x="83520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20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59720" y="1330200"/>
            <a:ext cx="0" cy="5219280"/>
            <a:chOff x="8559720" y="1330200"/>
            <a:chExt cx="0" cy="5219280"/>
          </a:xfrm>
        </p:grpSpPr>
        <p:sp>
          <p:nvSpPr>
            <p:cNvPr id="313" name=""/>
            <p:cNvSpPr/>
            <p:nvPr/>
          </p:nvSpPr>
          <p:spPr>
            <a:xfrm>
              <a:off x="85597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97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769240" y="1330200"/>
            <a:ext cx="0" cy="5219280"/>
            <a:chOff x="8769240" y="1330200"/>
            <a:chExt cx="0" cy="5219280"/>
          </a:xfrm>
        </p:grpSpPr>
        <p:sp>
          <p:nvSpPr>
            <p:cNvPr id="316" name=""/>
            <p:cNvSpPr/>
            <p:nvPr/>
          </p:nvSpPr>
          <p:spPr>
            <a:xfrm>
              <a:off x="876924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6924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77320" y="1330200"/>
            <a:ext cx="0" cy="5219280"/>
            <a:chOff x="8977320" y="1330200"/>
            <a:chExt cx="0" cy="5219280"/>
          </a:xfrm>
        </p:grpSpPr>
        <p:sp>
          <p:nvSpPr>
            <p:cNvPr id="319" name=""/>
            <p:cNvSpPr/>
            <p:nvPr/>
          </p:nvSpPr>
          <p:spPr>
            <a:xfrm>
              <a:off x="89773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773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0992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3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249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29680" y="22986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29640" y="213372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Taur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9440" y="2287440"/>
            <a:ext cx="19872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267336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2880" y="2492280"/>
            <a:ext cx="6318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Vir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97760" y="2133720"/>
            <a:ext cx="7984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Hyd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4200" y="17002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86560" y="1854360"/>
            <a:ext cx="200160" cy="21564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3080" y="1701720"/>
            <a:ext cx="6904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2320" y="18558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4720" y="16876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target for al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2492280"/>
            <a:ext cx="79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42800" y="2133360"/>
            <a:ext cx="4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73480" y="2133720"/>
            <a:ext cx="563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2529000"/>
            <a:ext cx="798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772160" y="2133360"/>
            <a:ext cx="465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34040" y="2168280"/>
            <a:ext cx="49860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4680" y="188136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200" y="3537000"/>
            <a:ext cx="2071800" cy="17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CNCT: C3 = 22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240" y="3824280"/>
            <a:ext cx="189360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S: C3 = 31.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240" y="508968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Messaging: C3 = 07.06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33560" y="3517920"/>
            <a:ext cx="20016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1000" y="3284640"/>
            <a:ext cx="198720" cy="21564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353700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6960" y="4219560"/>
            <a:ext cx="19872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7800" y="4621320"/>
            <a:ext cx="200160" cy="215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2280" y="5056200"/>
            <a:ext cx="19980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43320" y="432900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4221000"/>
            <a:ext cx="692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 ac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43320" y="472428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9520" y="465300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343320" y="5157360"/>
            <a:ext cx="8618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9520" y="504972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9680" y="184464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7336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3 Target dat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.04.0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4.06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6.08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Mino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Hydra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Virgo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Tauru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2955960" cy="2125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28600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chedule SG2 Software (Primav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9454400">
            <a:off x="2846160" y="40464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s: see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1280" y="1467000"/>
            <a:ext cx="67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S-GOLD2 platform products (Minos, Taurus, Virgo, Hydra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are planned in Primavera (Vintage SW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71760" y="29368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use 6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0640" y="297504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oadmap V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267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veral options are possible to reduce resourc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8600" y="1109520"/>
          <a:ext cx="8318520" cy="5073840"/>
        </p:xfrm>
        <a:graphic>
          <a:graphicData uri="http://schemas.openxmlformats.org/drawingml/2006/table">
            <a:tbl>
              <a:tblPr/>
              <a:tblGrid>
                <a:gridCol w="1092240"/>
                <a:gridCol w="2349360"/>
                <a:gridCol w="1003320"/>
                <a:gridCol w="1015920"/>
                <a:gridCol w="978120"/>
                <a:gridCol w="977760"/>
                <a:gridCol w="901800"/>
              </a:tblGrid>
              <a:tr h="117036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full features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Theme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 UMTS EDGE plat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featureset of exisitng platforms (SG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UMTS smart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innovation and defocus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NG with all features and leverage existing platforms for consumer attractiveness and minimum operator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smartphone and UMTS as well as leveraging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UMTS story with Qualcomm, NG theme phone (without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smartphone, NG theme phone (wo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10920" y="626760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With optimised featu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2048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Options in order to close the resources g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balance innovation – profit –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052640"/>
          <a:ext cx="8766360" cy="4578120"/>
        </p:xfrm>
        <a:graphic>
          <a:graphicData uri="http://schemas.openxmlformats.org/drawingml/2006/table">
            <a:tbl>
              <a:tblPr/>
              <a:tblGrid>
                <a:gridCol w="630360"/>
                <a:gridCol w="2305080"/>
                <a:gridCol w="1006560"/>
                <a:gridCol w="1079280"/>
                <a:gridCol w="1008000"/>
                <a:gridCol w="1297080"/>
                <a:gridCol w="1440000"/>
              </a:tblGrid>
              <a:tr h="547920">
                <a:tc rowSpan="8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In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 (Volum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phone UM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Entry UMT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n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2007 and beyo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o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e COM Synerg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mass market mig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si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1116000" y="5950080"/>
            <a:ext cx="73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23960" indent="-5446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enarios 5 gives us the best balance betwe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coverage, profitability potential and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" y="202680"/>
            <a:ext cx="875052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 (Global Products: 16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408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409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421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447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450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461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475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490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508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527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558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560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574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575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590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593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605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623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641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643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659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662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674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676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679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714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0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9120" y="3002040"/>
            <a:ext cx="2196000" cy="426600"/>
            <a:chOff x="609120" y="3002040"/>
            <a:chExt cx="2196000" cy="426600"/>
          </a:xfrm>
        </p:grpSpPr>
        <p:sp>
          <p:nvSpPr>
            <p:cNvPr id="733" name=""/>
            <p:cNvSpPr/>
            <p:nvPr/>
          </p:nvSpPr>
          <p:spPr>
            <a:xfrm>
              <a:off x="60912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844920" y="3065400"/>
              <a:ext cx="1960200" cy="363240"/>
              <a:chOff x="844920" y="3065400"/>
              <a:chExt cx="1960200" cy="36324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844920" y="3065400"/>
                <a:ext cx="1960200" cy="363240"/>
                <a:chOff x="844920" y="3065400"/>
                <a:chExt cx="1960200" cy="36324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844920" y="3065400"/>
                  <a:ext cx="1960200" cy="304560"/>
                  <a:chOff x="844920" y="3065400"/>
                  <a:chExt cx="1960200" cy="3045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517760" y="3065400"/>
                    <a:ext cx="1287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Electra MM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800" spc="-1" strike="noStrike">
                        <a:solidFill>
                          <a:srgbClr val="000000"/>
                        </a:solidFill>
                        <a:latin typeface="Siemens Sans"/>
                      </a:rPr>
                      <a:t>(TBD) (PPM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4920" y="31305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11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1217520" y="3079440"/>
                  <a:ext cx="187560" cy="349200"/>
                  <a:chOff x="1217520" y="3079440"/>
                  <a:chExt cx="187560" cy="349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1292400" y="3079440"/>
                    <a:ext cx="112680" cy="209520"/>
                  </a:xfrm>
                  <a:custGeom>
                    <a:avLst/>
                    <a:gdLst>
                      <a:gd name="textAreaLeft" fmla="*/ 5400 w 112680"/>
                      <a:gd name="textAreaRight" fmla="*/ 107280 w 112680"/>
                      <a:gd name="textAreaTop" fmla="*/ 5400 h 209520"/>
                      <a:gd name="textAreaBottom" fmla="*/ 204120 h 209520"/>
                    </a:gdLst>
                    <a:ahLst/>
                    <a:rect l="textAreaLeft" t="textAreaTop" r="textAreaRight" b="textAreaBottom"/>
                    <a:pathLst>
                      <a:path w="21600" h="4010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6504"/>
                        </a:lnTo>
                        <a:arcTo wR="3600" hR="3600" stAng="10800000" swAng="-5400000"/>
                        <a:lnTo>
                          <a:pt x="18000" y="4010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17520" y="3287520"/>
                    <a:ext cx="17460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292400" y="3149280"/>
                    <a:ext cx="1108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292400" y="325404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279440" y="330660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255680" y="334152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39840" y="337644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1250640" y="3306600"/>
                    <a:ext cx="572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220760" y="340488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1278000" y="3308040"/>
                    <a:ext cx="554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1306080" y="3306600"/>
                    <a:ext cx="57240" cy="950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042920" y="3284640"/>
                <a:ext cx="10800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755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</a:t>
                </a: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72400" y="4594320"/>
            <a:ext cx="1476000" cy="660600"/>
            <a:chOff x="5072400" y="4594320"/>
            <a:chExt cx="1476000" cy="660600"/>
          </a:xfrm>
        </p:grpSpPr>
        <p:grpSp>
          <p:nvGrpSpPr>
            <p:cNvPr id="775" name=""/>
            <p:cNvGrpSpPr/>
            <p:nvPr/>
          </p:nvGrpSpPr>
          <p:grpSpPr>
            <a:xfrm>
              <a:off x="5072400" y="4594320"/>
              <a:ext cx="1476000" cy="660600"/>
              <a:chOff x="5072400" y="4594320"/>
              <a:chExt cx="1476000" cy="660600"/>
            </a:xfrm>
          </p:grpSpPr>
          <p:sp>
            <p:nvSpPr>
              <p:cNvPr id="776" name=""/>
              <p:cNvSpPr/>
              <p:nvPr/>
            </p:nvSpPr>
            <p:spPr>
              <a:xfrm>
                <a:off x="5640480" y="4707000"/>
                <a:ext cx="90792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724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5438880" y="4651200"/>
                <a:ext cx="109440" cy="371520"/>
                <a:chOff x="5438880" y="4651200"/>
                <a:chExt cx="109440" cy="371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38880" y="465120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438880" y="47253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38880" y="4836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38880" y="4874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38880" y="49111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38880" y="49485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438880" y="49856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49360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66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581040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14692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641920" y="45957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793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794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811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828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844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848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859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806360" y="3208320"/>
              <a:ext cx="12888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8000" y="202680"/>
            <a:ext cx="875016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(Global + APAC + NAM Products: 29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885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886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889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898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924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927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938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941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952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953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967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985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986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1004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1035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1051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1067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1082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1100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1118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1120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1136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1151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1153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63040" y="3716280"/>
            <a:ext cx="1762200" cy="718200"/>
            <a:chOff x="563040" y="3716280"/>
            <a:chExt cx="1762200" cy="718200"/>
          </a:xfrm>
        </p:grpSpPr>
        <p:grpSp>
          <p:nvGrpSpPr>
            <p:cNvPr id="1191" name=""/>
            <p:cNvGrpSpPr/>
            <p:nvPr/>
          </p:nvGrpSpPr>
          <p:grpSpPr>
            <a:xfrm>
              <a:off x="563040" y="3716280"/>
              <a:ext cx="1762200" cy="718200"/>
              <a:chOff x="563040" y="3716280"/>
              <a:chExt cx="1762200" cy="718200"/>
            </a:xfrm>
          </p:grpSpPr>
          <p:sp>
            <p:nvSpPr>
              <p:cNvPr id="1192" name=""/>
              <p:cNvSpPr/>
              <p:nvPr/>
            </p:nvSpPr>
            <p:spPr>
              <a:xfrm>
                <a:off x="1241280" y="3825720"/>
                <a:ext cx="223920" cy="216000"/>
              </a:xfrm>
              <a:prstGeom prst="flowChartSort">
                <a:avLst/>
              </a:pr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826920" y="3825720"/>
                <a:ext cx="1498320" cy="608760"/>
                <a:chOff x="826920" y="3825720"/>
                <a:chExt cx="1498320" cy="608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3000" y="3825720"/>
                  <a:ext cx="822240" cy="6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iemens Sans"/>
                    </a:rPr>
                    <a:t>CHN HW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920" y="3838320"/>
                  <a:ext cx="47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563040" y="3716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Siemens Sans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103400" y="394488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1199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97600" y="3002040"/>
            <a:ext cx="2206800" cy="426600"/>
            <a:chOff x="597600" y="3002040"/>
            <a:chExt cx="2206800" cy="426600"/>
          </a:xfrm>
        </p:grpSpPr>
        <p:sp>
          <p:nvSpPr>
            <p:cNvPr id="1218" name=""/>
            <p:cNvSpPr/>
            <p:nvPr/>
          </p:nvSpPr>
          <p:spPr>
            <a:xfrm>
              <a:off x="59760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831240" y="3065400"/>
              <a:ext cx="1973160" cy="363240"/>
              <a:chOff x="831240" y="3065400"/>
              <a:chExt cx="1973160" cy="3632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31240" y="3065400"/>
                <a:ext cx="1973160" cy="304560"/>
                <a:chOff x="831240" y="3065400"/>
                <a:chExt cx="1973160" cy="3045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1517040" y="3065400"/>
                  <a:ext cx="1287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Electra M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1240" y="31305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216800" y="3079440"/>
                <a:ext cx="187560" cy="349200"/>
                <a:chOff x="1216800" y="3079440"/>
                <a:chExt cx="187560" cy="3492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91680" y="3079440"/>
                  <a:ext cx="112680" cy="209520"/>
                </a:xfrm>
                <a:custGeom>
                  <a:avLst/>
                  <a:gdLst>
                    <a:gd name="textAreaLeft" fmla="*/ 5400 w 112680"/>
                    <a:gd name="textAreaRight" fmla="*/ 107280 w 11268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104">
                      <a:moveTo>
                        <a:pt x="3600" y="0"/>
                      </a:moveTo>
                      <a:arcTo wR="3600" hR="3600" stAng="16200000" swAng="-5400000"/>
                      <a:lnTo>
                        <a:pt x="0" y="36504"/>
                      </a:lnTo>
                      <a:arcTo wR="3600" hR="3600" stAng="10800000" swAng="-5400000"/>
                      <a:lnTo>
                        <a:pt x="18000" y="4010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16800" y="3287520"/>
                  <a:ext cx="17460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291680" y="3149280"/>
                  <a:ext cx="1108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1680" y="325404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78720" y="330660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54960" y="334152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239120" y="337644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1249920" y="3306600"/>
                  <a:ext cx="572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20040" y="340488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277280" y="3308040"/>
                  <a:ext cx="554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305360" y="3306600"/>
                  <a:ext cx="5724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1041840" y="3284640"/>
              <a:ext cx="10836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1239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059800" y="4594320"/>
            <a:ext cx="1488240" cy="660600"/>
            <a:chOff x="5059800" y="4594320"/>
            <a:chExt cx="1488240" cy="660600"/>
          </a:xfrm>
        </p:grpSpPr>
        <p:grpSp>
          <p:nvGrpSpPr>
            <p:cNvPr id="1259" name=""/>
            <p:cNvGrpSpPr/>
            <p:nvPr/>
          </p:nvGrpSpPr>
          <p:grpSpPr>
            <a:xfrm>
              <a:off x="5059800" y="4594320"/>
              <a:ext cx="1488240" cy="660600"/>
              <a:chOff x="5059800" y="4594320"/>
              <a:chExt cx="1488240" cy="660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39400" y="4707000"/>
                <a:ext cx="9086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98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5438520" y="4651200"/>
                <a:ext cx="109800" cy="371520"/>
                <a:chOff x="5438520" y="4651200"/>
                <a:chExt cx="109800" cy="37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438520" y="4651200"/>
                  <a:ext cx="109800" cy="371520"/>
                </a:xfrm>
                <a:custGeom>
                  <a:avLst/>
                  <a:gdLst>
                    <a:gd name="textAreaLeft" fmla="*/ 5040 w 109800"/>
                    <a:gd name="textAreaRight" fmla="*/ 104760 w 10980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2918">
                      <a:moveTo>
                        <a:pt x="3600" y="0"/>
                      </a:moveTo>
                      <a:arcTo wR="3600" hR="3600" stAng="16200000" swAng="-5400000"/>
                      <a:lnTo>
                        <a:pt x="0" y="69318"/>
                      </a:lnTo>
                      <a:arcTo wR="3600" hR="3600" stAng="10800000" swAng="-5400000"/>
                      <a:lnTo>
                        <a:pt x="18000" y="729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38520" y="47253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438520" y="48369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38520" y="48740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438520" y="491112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438520" y="49485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438520" y="49856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493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6588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580968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13720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5642280" y="4595760"/>
              <a:ext cx="10692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1277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1295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1300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1312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1328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147600" y="4025880"/>
            <a:ext cx="7953120" cy="2071440"/>
            <a:chOff x="147600" y="4025880"/>
            <a:chExt cx="7953120" cy="2071440"/>
          </a:xfrm>
        </p:grpSpPr>
        <p:grpSp>
          <p:nvGrpSpPr>
            <p:cNvPr id="1343" name=""/>
            <p:cNvGrpSpPr/>
            <p:nvPr/>
          </p:nvGrpSpPr>
          <p:grpSpPr>
            <a:xfrm>
              <a:off x="3418920" y="5265720"/>
              <a:ext cx="1368360" cy="489240"/>
              <a:chOff x="3418920" y="5265720"/>
              <a:chExt cx="1368360" cy="4892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418920" y="5265720"/>
                <a:ext cx="1368360" cy="489240"/>
                <a:chOff x="3418920" y="5265720"/>
                <a:chExt cx="1368360" cy="48924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418920" y="5364000"/>
                  <a:ext cx="1368360" cy="390960"/>
                  <a:chOff x="3418920" y="5364000"/>
                  <a:chExt cx="1368360" cy="39096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418920" y="5572080"/>
                    <a:ext cx="1368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Flamingo DTC</a:t>
                    </a:r>
                    <a:r>
                      <a:rPr b="1" i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07800" y="5373720"/>
                    <a:ext cx="303120" cy="204840"/>
                    <a:chOff x="3907800" y="5373720"/>
                    <a:chExt cx="303120" cy="20484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07800" y="5478480"/>
                      <a:ext cx="236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91680" y="549288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60000" y="5516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3939480" y="55422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>
                      <a:off x="395352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12480" y="55612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>
                      <a:off x="3988440" y="5494320"/>
                      <a:ext cx="76320" cy="6696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H="1">
                      <a:off x="402984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74400" y="5373720"/>
                      <a:ext cx="2365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048920" y="5405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006080" y="54500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9" name=""/>
                  <p:cNvSpPr/>
                  <p:nvPr/>
                </p:nvSpPr>
                <p:spPr>
                  <a:xfrm>
                    <a:off x="3644280" y="5364000"/>
                    <a:ext cx="8888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3/0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3912480" y="5265720"/>
                  <a:ext cx="108000" cy="108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4202640" y="544500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9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147600" y="4025880"/>
              <a:ext cx="7953120" cy="2071440"/>
              <a:chOff x="147600" y="4025880"/>
              <a:chExt cx="7953120" cy="207144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1943280" y="4025880"/>
                <a:ext cx="1653840" cy="406440"/>
                <a:chOff x="1943280" y="4025880"/>
                <a:chExt cx="1653840" cy="406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1943280" y="4025880"/>
                  <a:ext cx="1653840" cy="406440"/>
                  <a:chOff x="1943280" y="4025880"/>
                  <a:chExt cx="1653840" cy="40644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2050920" y="4025880"/>
                    <a:ext cx="1546200" cy="406440"/>
                    <a:chOff x="2050920" y="4025880"/>
                    <a:chExt cx="1546200" cy="40644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2050920" y="4025880"/>
                      <a:ext cx="187560" cy="349200"/>
                      <a:chOff x="2050920" y="4025880"/>
                      <a:chExt cx="187560" cy="34920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2125800" y="40258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2050920" y="42339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2125800" y="40957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2125800" y="42004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2112840" y="42530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2089080" y="42879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2073240" y="43228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>
                        <a:off x="2084040" y="42530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2054160" y="43513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 flipH="1">
                        <a:off x="2111400" y="42544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>
                        <a:off x="2139480" y="42530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2316240" y="412776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 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TFT, MPi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2295000" y="402588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0" name=""/>
                  <p:cNvSpPr/>
                  <p:nvPr/>
                </p:nvSpPr>
                <p:spPr>
                  <a:xfrm>
                    <a:off x="1943280" y="413388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1" name=""/>
                <p:cNvSpPr/>
                <p:nvPr/>
              </p:nvSpPr>
              <p:spPr>
                <a:xfrm>
                  <a:off x="2679120" y="405756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3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161240" y="4730760"/>
                <a:ext cx="1561680" cy="655200"/>
                <a:chOff x="4161240" y="4730760"/>
                <a:chExt cx="1561680" cy="65520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4418280" y="4730760"/>
                  <a:ext cx="1304640" cy="655200"/>
                  <a:chOff x="4418280" y="4730760"/>
                  <a:chExt cx="1304640" cy="655200"/>
                </a:xfrm>
              </p:grpSpPr>
              <p:grpSp>
                <p:nvGrpSpPr>
                  <p:cNvPr id="1384" name=""/>
                  <p:cNvGrpSpPr/>
                  <p:nvPr/>
                </p:nvGrpSpPr>
                <p:grpSpPr>
                  <a:xfrm>
                    <a:off x="4419720" y="4923000"/>
                    <a:ext cx="1303200" cy="462960"/>
                    <a:chOff x="4419720" y="4923000"/>
                    <a:chExt cx="1303200" cy="462960"/>
                  </a:xfrm>
                </p:grpSpPr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4419720" y="4923000"/>
                      <a:ext cx="110520" cy="371160"/>
                      <a:chOff x="4419720" y="4923000"/>
                      <a:chExt cx="110520" cy="37116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4419720" y="492300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4419720" y="49971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4419720" y="510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4419720" y="51454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19720" y="5182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419720" y="522000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9720" y="52570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450252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447480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444744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650840" y="5081400"/>
                      <a:ext cx="10720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619520" y="492300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3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8" name=""/>
                  <p:cNvSpPr/>
                  <p:nvPr/>
                </p:nvSpPr>
                <p:spPr>
                  <a:xfrm>
                    <a:off x="4418280" y="473076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9" name=""/>
                <p:cNvSpPr/>
                <p:nvPr/>
              </p:nvSpPr>
              <p:spPr>
                <a:xfrm>
                  <a:off x="4161240" y="50608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223640" y="5157720"/>
                <a:ext cx="1619280" cy="545760"/>
                <a:chOff x="1223640" y="5157720"/>
                <a:chExt cx="1619280" cy="5457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1472760" y="515772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1223640" y="5259240"/>
                  <a:ext cx="1619280" cy="444240"/>
                  <a:chOff x="1223640" y="5259240"/>
                  <a:chExt cx="1619280" cy="4442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1329840" y="5259240"/>
                    <a:ext cx="1513080" cy="444240"/>
                    <a:chOff x="1329840" y="5259240"/>
                    <a:chExt cx="1513080" cy="444240"/>
                  </a:xfrm>
                </p:grpSpPr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1329840" y="5300280"/>
                      <a:ext cx="187560" cy="349200"/>
                      <a:chOff x="1329840" y="5300280"/>
                      <a:chExt cx="187560" cy="349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1404720" y="53002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1329840" y="55083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1404720" y="53701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1404720" y="54748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1391760" y="55274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1368000" y="55623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1352160" y="55972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 flipH="1">
                        <a:off x="1362960" y="55274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1333080" y="56257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>
                        <a:off x="1390320" y="55288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 flipH="1">
                        <a:off x="1418400" y="55274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1561680" y="5398920"/>
                      <a:ext cx="128124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New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1574280" y="52592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1223640" y="53863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6878520" y="4908600"/>
                <a:ext cx="1222200" cy="466200"/>
                <a:chOff x="6878520" y="4908600"/>
                <a:chExt cx="1222200" cy="46620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6878520" y="4908600"/>
                  <a:ext cx="1222200" cy="457560"/>
                  <a:chOff x="6878520" y="4908600"/>
                  <a:chExt cx="1222200" cy="457560"/>
                </a:xfrm>
              </p:grpSpPr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6878520" y="4908600"/>
                    <a:ext cx="1222200" cy="457560"/>
                    <a:chOff x="6878520" y="4908600"/>
                    <a:chExt cx="1222200" cy="457560"/>
                  </a:xfrm>
                </p:grpSpPr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933960" y="52135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8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6878520" y="4908600"/>
                      <a:ext cx="12222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Cam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4" name=""/>
                    <p:cNvGrpSpPr/>
                    <p:nvPr/>
                  </p:nvGrpSpPr>
                  <p:grpSpPr>
                    <a:xfrm>
                      <a:off x="7268760" y="5068800"/>
                      <a:ext cx="302400" cy="204840"/>
                      <a:chOff x="7268760" y="5068800"/>
                      <a:chExt cx="302400" cy="204840"/>
                    </a:xfrm>
                  </p:grpSpPr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268760" y="5173560"/>
                        <a:ext cx="2361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352280" y="51879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20600" y="5211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0080" y="52372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 flipH="1">
                        <a:off x="731376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273080" y="525636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 flipH="1">
                        <a:off x="7348680" y="5189400"/>
                        <a:ext cx="7596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 flipH="1">
                        <a:off x="739008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35000" y="5068800"/>
                        <a:ext cx="23616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409520" y="51004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66680" y="51451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6" name=""/>
                  <p:cNvSpPr/>
                  <p:nvPr/>
                </p:nvSpPr>
                <p:spPr>
                  <a:xfrm>
                    <a:off x="7606800" y="513072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7501680" y="5237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6312960" y="5300640"/>
                <a:ext cx="1787760" cy="486720"/>
                <a:chOff x="6312960" y="5300640"/>
                <a:chExt cx="1787760" cy="48672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6312960" y="5300640"/>
                  <a:ext cx="1787760" cy="458280"/>
                  <a:chOff x="6312960" y="5300640"/>
                  <a:chExt cx="1787760" cy="45828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6409800" y="5300640"/>
                    <a:ext cx="1690920" cy="458280"/>
                    <a:chOff x="6409800" y="5300640"/>
                    <a:chExt cx="1690920" cy="45828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6732000" y="5454360"/>
                      <a:ext cx="136872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DT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2nd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2" name=""/>
                    <p:cNvGrpSpPr/>
                    <p:nvPr/>
                  </p:nvGrpSpPr>
                  <p:grpSpPr>
                    <a:xfrm>
                      <a:off x="6409800" y="5449680"/>
                      <a:ext cx="303120" cy="204840"/>
                      <a:chOff x="6409800" y="5449680"/>
                      <a:chExt cx="303120" cy="204840"/>
                    </a:xfrm>
                  </p:grpSpPr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6409800" y="5554440"/>
                        <a:ext cx="2365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6493680" y="556884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6462000" y="55926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6441480" y="56181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 flipH="1">
                        <a:off x="645552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6414480" y="5637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H="1">
                        <a:off x="6490440" y="5570280"/>
                        <a:ext cx="7632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 flipH="1">
                        <a:off x="653184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476400" y="5449680"/>
                        <a:ext cx="23652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6550920" y="54813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508080" y="5526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6447960" y="5300640"/>
                      <a:ext cx="8888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6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6312960" y="54687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"/>
                <p:cNvSpPr/>
                <p:nvPr/>
              </p:nvSpPr>
              <p:spPr>
                <a:xfrm>
                  <a:off x="7084440" y="564984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4150080" y="5516640"/>
                <a:ext cx="1143000" cy="580680"/>
                <a:chOff x="4150080" y="5516640"/>
                <a:chExt cx="1143000" cy="58068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4150080" y="5516640"/>
                  <a:ext cx="1143000" cy="580680"/>
                  <a:chOff x="4150080" y="5516640"/>
                  <a:chExt cx="1143000" cy="58068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4150080" y="5516640"/>
                    <a:ext cx="1143000" cy="580680"/>
                    <a:chOff x="4150080" y="5516640"/>
                    <a:chExt cx="1143000" cy="580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4755960" y="55166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5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1" name=""/>
                    <p:cNvGrpSpPr/>
                    <p:nvPr/>
                  </p:nvGrpSpPr>
                  <p:grpSpPr>
                    <a:xfrm>
                      <a:off x="4859640" y="5707080"/>
                      <a:ext cx="111240" cy="371520"/>
                      <a:chOff x="4859640" y="5707080"/>
                      <a:chExt cx="111240" cy="371520"/>
                    </a:xfrm>
                  </p:grpSpPr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4859640" y="5707080"/>
                        <a:ext cx="111240" cy="37152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520"/>
                          <a:gd name="textAreaBottom" fmla="*/ 366120 h 371520"/>
                        </a:gdLst>
                        <a:ahLst/>
                        <a:rect l="textAreaLeft" t="textAreaTop" r="textAreaRight" b="textAreaBottom"/>
                        <a:pathLst>
                          <a:path w="21600" h="7197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77"/>
                            </a:lnTo>
                            <a:arcTo wR="3600" hR="3600" stAng="10800000" swAng="-5400000"/>
                            <a:lnTo>
                              <a:pt x="18000" y="7197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4859640" y="57812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4859640" y="5892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4859640" y="59299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4859640" y="596700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4859640" y="6004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4859640" y="6041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49431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491508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48873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4150080" y="5792760"/>
                      <a:ext cx="11430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D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Dodo col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3" name=""/>
                  <p:cNvSpPr/>
                  <p:nvPr/>
                </p:nvSpPr>
                <p:spPr>
                  <a:xfrm>
                    <a:off x="4680360" y="56721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4445280" y="566100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98800" y="5081760"/>
                <a:ext cx="1496160" cy="519840"/>
                <a:chOff x="2998800" y="5081760"/>
                <a:chExt cx="1496160" cy="519840"/>
              </a:xfrm>
            </p:grpSpPr>
            <p:grpSp>
              <p:nvGrpSpPr>
                <p:cNvPr id="1476" name=""/>
                <p:cNvGrpSpPr/>
                <p:nvPr/>
              </p:nvGrpSpPr>
              <p:grpSpPr>
                <a:xfrm>
                  <a:off x="3030480" y="5081760"/>
                  <a:ext cx="1464480" cy="447120"/>
                  <a:chOff x="3030480" y="5081760"/>
                  <a:chExt cx="1464480" cy="44712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3030480" y="5081760"/>
                    <a:ext cx="1464480" cy="447120"/>
                    <a:chOff x="3030480" y="5081760"/>
                    <a:chExt cx="1464480" cy="447120"/>
                  </a:xfrm>
                </p:grpSpPr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3030480" y="5081760"/>
                      <a:ext cx="110520" cy="371160"/>
                      <a:chOff x="3030480" y="5081760"/>
                      <a:chExt cx="110520" cy="3711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3030480" y="508176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3030480" y="5155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030480" y="52675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030480" y="53042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3030480" y="53416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030480" y="537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030480" y="54158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311328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308556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305820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3214080" y="522432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Mu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198600" y="50817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2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1" name=""/>
                  <p:cNvSpPr/>
                  <p:nvPr/>
                </p:nvSpPr>
                <p:spPr>
                  <a:xfrm>
                    <a:off x="3587400" y="51134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>
                  <a:off x="2998800" y="54640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1853640" y="5011560"/>
                <a:ext cx="972000" cy="433440"/>
                <a:chOff x="1853640" y="5011560"/>
                <a:chExt cx="972000" cy="4334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853640" y="5013360"/>
                  <a:ext cx="972000" cy="431640"/>
                  <a:chOff x="1853640" y="5013360"/>
                  <a:chExt cx="972000" cy="4316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853640" y="5013360"/>
                    <a:ext cx="972000" cy="431640"/>
                    <a:chOff x="1853640" y="5013360"/>
                    <a:chExt cx="972000" cy="43164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2638800" y="5095800"/>
                      <a:ext cx="186840" cy="349200"/>
                      <a:chOff x="2638800" y="5095800"/>
                      <a:chExt cx="186840" cy="34920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2713320" y="5095800"/>
                        <a:ext cx="112320" cy="209520"/>
                      </a:xfrm>
                      <a:custGeom>
                        <a:avLst/>
                        <a:gdLst>
                          <a:gd name="textAreaLeft" fmla="*/ 5400 w 112320"/>
                          <a:gd name="textAreaRight" fmla="*/ 106920 w 11232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233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633"/>
                            </a:lnTo>
                            <a:arcTo wR="3600" hR="3600" stAng="10800000" swAng="-5400000"/>
                            <a:lnTo>
                              <a:pt x="18000" y="40233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2638800" y="5303880"/>
                        <a:ext cx="17424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2713320" y="51656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2713320" y="52704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2700360" y="5322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2676600" y="53578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2660760" y="539280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>
                        <a:off x="2671920" y="5322960"/>
                        <a:ext cx="568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2641680" y="542124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 flipH="1">
                        <a:off x="2698560" y="5324400"/>
                        <a:ext cx="550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 flipH="1">
                        <a:off x="2727360" y="5322960"/>
                        <a:ext cx="5688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853640" y="5103720"/>
                      <a:ext cx="7599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Leop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EG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356560" y="50133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0" name=""/>
                  <p:cNvSpPr/>
                  <p:nvPr/>
                </p:nvSpPr>
                <p:spPr>
                  <a:xfrm>
                    <a:off x="2267280" y="53006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2101320" y="501156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37600" y="5013360"/>
                <a:ext cx="1573200" cy="496440"/>
                <a:chOff x="237600" y="5013360"/>
                <a:chExt cx="1573200" cy="49644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237600" y="5013360"/>
                  <a:ext cx="1573200" cy="496440"/>
                  <a:chOff x="237600" y="5013360"/>
                  <a:chExt cx="1573200" cy="49644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380520" y="5013360"/>
                    <a:ext cx="1430280" cy="496440"/>
                    <a:chOff x="380520" y="5013360"/>
                    <a:chExt cx="1430280" cy="496440"/>
                  </a:xfrm>
                </p:grpSpPr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380520" y="5013360"/>
                      <a:ext cx="111240" cy="371160"/>
                      <a:chOff x="380520" y="5013360"/>
                      <a:chExt cx="111240" cy="37116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>
                        <a:off x="380520" y="5013360"/>
                        <a:ext cx="111240" cy="37116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190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07"/>
                            </a:lnTo>
                            <a:arcTo wR="3600" hR="3600" stAng="10800000" swAng="-5400000"/>
                            <a:lnTo>
                              <a:pt x="18000" y="7190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80520" y="5087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80520" y="51991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380520" y="5235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380520" y="527328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380520" y="531036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2" name=""/>
                      <p:cNvSpPr/>
                      <p:nvPr/>
                    </p:nvSpPr>
                    <p:spPr>
                      <a:xfrm>
                        <a:off x="380520" y="5347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>
                        <a:off x="4640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43596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082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522360" y="50641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0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529920" y="520524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V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8" name=""/>
                  <p:cNvSpPr/>
                  <p:nvPr/>
                </p:nvSpPr>
                <p:spPr>
                  <a:xfrm>
                    <a:off x="237600" y="51577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9" name=""/>
                <p:cNvSpPr/>
                <p:nvPr/>
              </p:nvSpPr>
              <p:spPr>
                <a:xfrm>
                  <a:off x="853560" y="5183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147600" y="4389480"/>
                <a:ext cx="1490760" cy="507960"/>
                <a:chOff x="147600" y="4389480"/>
                <a:chExt cx="1490760" cy="507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212760" y="4400640"/>
                  <a:ext cx="1425600" cy="496800"/>
                  <a:chOff x="212760" y="4400640"/>
                  <a:chExt cx="1425600" cy="4968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12760" y="4525920"/>
                    <a:ext cx="111240" cy="371520"/>
                    <a:chOff x="212760" y="4525920"/>
                    <a:chExt cx="111240" cy="3715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12760" y="4525920"/>
                      <a:ext cx="111240" cy="371520"/>
                    </a:xfrm>
                    <a:custGeom>
                      <a:avLst/>
                      <a:gdLst>
                        <a:gd name="textAreaLeft" fmla="*/ 5400 w 111240"/>
                        <a:gd name="textAreaRight" fmla="*/ 105840 w 111240"/>
                        <a:gd name="textAreaTop" fmla="*/ 5400 h 371520"/>
                        <a:gd name="textAreaBottom" fmla="*/ 366120 h 371520"/>
                      </a:gdLst>
                      <a:ahLst/>
                      <a:rect l="textAreaLeft" t="textAreaTop" r="textAreaRight" b="textAreaBottom"/>
                      <a:pathLst>
                        <a:path w="21600" h="7197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68377"/>
                          </a:lnTo>
                          <a:arcTo wR="3600" hR="3600" stAng="10800000" swAng="-5400000"/>
                          <a:lnTo>
                            <a:pt x="18000" y="7197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e68d34"/>
                    </a:solidFill>
                    <a:ln w="9360">
                      <a:solidFill>
                        <a:srgbClr val="dddddd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12760" y="46000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12760" y="47116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212760" y="47487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212760" y="478584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212760" y="48232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212760" y="48603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2962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26820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2404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3" name=""/>
                  <p:cNvSpPr/>
                  <p:nvPr/>
                </p:nvSpPr>
                <p:spPr>
                  <a:xfrm>
                    <a:off x="357120" y="4700520"/>
                    <a:ext cx="1281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Herm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4480" y="45417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9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95280" y="4400640"/>
                    <a:ext cx="108000" cy="10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147600" y="43894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7" name=""/>
          <p:cNvGrpSpPr/>
          <p:nvPr/>
        </p:nvGrpSpPr>
        <p:grpSpPr>
          <a:xfrm>
            <a:off x="5303880" y="5151600"/>
            <a:ext cx="923400" cy="422280"/>
            <a:chOff x="5303880" y="5151600"/>
            <a:chExt cx="923400" cy="422280"/>
          </a:xfrm>
        </p:grpSpPr>
        <p:grpSp>
          <p:nvGrpSpPr>
            <p:cNvPr id="1548" name=""/>
            <p:cNvGrpSpPr/>
            <p:nvPr/>
          </p:nvGrpSpPr>
          <p:grpSpPr>
            <a:xfrm>
              <a:off x="5376600" y="5151600"/>
              <a:ext cx="850680" cy="422280"/>
              <a:chOff x="5376600" y="5151600"/>
              <a:chExt cx="850680" cy="422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651280" y="5157720"/>
                <a:ext cx="576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cc0000"/>
                    </a:solidFill>
                    <a:latin typeface="Siemens Sans"/>
                  </a:rPr>
                  <a:t>Sisk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cc0000"/>
                    </a:solidFill>
                    <a:latin typeface="Siemens Sans"/>
                  </a:rPr>
                  <a:t>2nd 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51280" y="5421240"/>
                <a:ext cx="47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376600" y="5151600"/>
                <a:ext cx="186840" cy="349200"/>
                <a:chOff x="5376600" y="5151600"/>
                <a:chExt cx="186840" cy="349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451120" y="51516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376600" y="535968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451120" y="522144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451120" y="53262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160" y="5378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14400" y="54136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8560" y="54486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409720" y="537876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79480" y="547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436360" y="53802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465160" y="537876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3" name=""/>
            <p:cNvSpPr/>
            <p:nvPr/>
          </p:nvSpPr>
          <p:spPr>
            <a:xfrm>
              <a:off x="5303880" y="5229360"/>
              <a:ext cx="108000" cy="10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1565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0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4802040" y="32115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-Release Plan SG2-Platform - Tim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412920" y="1444680"/>
            <a:ext cx="8543880" cy="510372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4726080" y="5759280"/>
            <a:ext cx="3284280" cy="1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21680" y="5943600"/>
            <a:ext cx="1079280" cy="179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L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6200" y="5759280"/>
            <a:ext cx="43498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6200" y="5581800"/>
            <a:ext cx="1079640" cy="179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MC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265640" y="5938920"/>
            <a:ext cx="983880" cy="447480"/>
            <a:chOff x="4265640" y="5938920"/>
            <a:chExt cx="983880" cy="447480"/>
          </a:xfrm>
        </p:grpSpPr>
        <p:sp>
          <p:nvSpPr>
            <p:cNvPr id="1593" name=""/>
            <p:cNvSpPr/>
            <p:nvPr/>
          </p:nvSpPr>
          <p:spPr>
            <a:xfrm>
              <a:off x="4265640" y="5938920"/>
              <a:ext cx="983880" cy="223560"/>
            </a:xfrm>
            <a:custGeom>
              <a:avLst/>
              <a:gdLst>
                <a:gd name="textAreaLeft" fmla="*/ 172080 w 983880"/>
                <a:gd name="textAreaRight" fmla="*/ 713520 w 983880"/>
                <a:gd name="textAreaTop" fmla="*/ 29880 h 223560"/>
                <a:gd name="textAreaBottom" fmla="*/ 19368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ad1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3560" y="6081480"/>
              <a:ext cx="83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b5d"/>
                  </a:solidFill>
                  <a:latin typeface="Arial"/>
                </a:rPr>
                <a:t>Hand-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1595520" y="5762520"/>
            <a:ext cx="1260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80000" y="5762520"/>
            <a:ext cx="125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708640" y="315756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oad Cha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833600" y="4270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57280" y="306396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43480" y="3157560"/>
            <a:ext cx="58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&amp;D Skills Distrib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0720" y="1778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ll Distribution o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260280" y="1427040"/>
          <a:ext cx="866160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27040"/>
                    <a:ext cx="8661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840" y="4141800"/>
            <a:ext cx="8821800" cy="246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680" y="1168560"/>
            <a:ext cx="8821800" cy="134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671560" y="2702880"/>
            <a:ext cx="4252680" cy="1189080"/>
          </a:xfrm>
          <a:prstGeom prst="flowChartExtra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35388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65 Generation (Uwe Syd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720" y="1246320"/>
            <a:ext cx="8611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weakne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sig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m factor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ap locking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ea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ck of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s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pensiv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tic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attempt to fit to operator program (e. g. VF life), ther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below 200 €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ssive cost reduc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package dedicated products to shrink in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e music by building MP3-player into headset plu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troducing UI into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eping SK65 and S65 as flagship by upgrading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M 4.0; Space 2 go, M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7800" y="3846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6800" y="2484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3040" y="25336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0" y="28843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2225160" y="3157560"/>
            <a:ext cx="45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lanning Proc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687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560" y="1249200"/>
            <a:ext cx="8648280" cy="497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impact on this 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e already develope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, available from 01/05, so far n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mode, available from 01/05 (without Doja), so far only 5k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w sales channels by generating „stories“ around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rescue phone (M65 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design variants to make deals with „local exclusivit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CX70 „Butterfly Design“ exclusive for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refreshes for deals with consortia or to increase attra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new colors for SL65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par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40" y="1278000"/>
            <a:ext cx="7589160" cy="436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upgrade for specific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2go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W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 Doja implementation for 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usic story for 65 generation products via MP3 head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P3 headset, including Java based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specific products, use already existing desig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65 without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daptations to S65 exclusively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Athena (Hera without cam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Iris into old Apoll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920" y="1162080"/>
          <a:ext cx="8843760" cy="5033880"/>
        </p:xfrm>
        <a:graphic>
          <a:graphicData uri="http://schemas.openxmlformats.org/drawingml/2006/table">
            <a:tbl>
              <a:tblPr/>
              <a:tblGrid>
                <a:gridCol w="1789200"/>
                <a:gridCol w="1481040"/>
                <a:gridCol w="1596960"/>
                <a:gridCol w="1422360"/>
                <a:gridCol w="1392120"/>
                <a:gridCol w="1162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e technolo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70; CX70 (M6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 and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SW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SW (without Do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sting/orders for PaT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all operator that are launching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mone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„Stories“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ue p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M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s approac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 with Debi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qualific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m 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bau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existing designs for exclusive de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 „Butterfly Design“ Rus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with customer started, feedback expected until 03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9920" y="1362240"/>
          <a:ext cx="8843760" cy="45892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upg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2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estimation started at 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 SW for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W requested by custo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easibility not 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e Do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,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le 22.0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MP3 headset incl. Java based U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bundles, specifically for S65 and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. fea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imeline f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housing 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nd solution f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ques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84560" y="32544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9920" y="1362240"/>
          <a:ext cx="8843760" cy="44020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ing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5 without 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‘ – 4‘ € Eb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 planned for 08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mg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k units at 99€ for FY 04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sign is 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rst des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 with V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d on 29.1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resources, specifically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person from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daptation to S65 for T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 upside pot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erings presented to TMO, feedback expected by 15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Ath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‘ units price line estimated at 7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s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portfo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e Iris into old Apollo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imeline, effort resources and financial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2600" y="5958000"/>
            <a:ext cx="7976880" cy="6048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480" y="35388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Mod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131840"/>
          <a:ext cx="8628120" cy="4221360"/>
        </p:xfrm>
        <a:graphic>
          <a:graphicData uri="http://schemas.openxmlformats.org/drawingml/2006/table">
            <a:tbl>
              <a:tblPr/>
              <a:tblGrid>
                <a:gridCol w="1130400"/>
                <a:gridCol w="1968480"/>
                <a:gridCol w="1871640"/>
                <a:gridCol w="2352600"/>
                <a:gridCol w="1305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i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op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in D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he SW on first of Dec for the Approval in CW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04.05-&gt; 10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CX70 but stock issues -&gt; will launch in Jan/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est  SW to get the Approval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m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download has to be deactiv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CR and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m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-&gt;2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nterested but requires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of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timeline -&gt; DS SW on 2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y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 over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s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ll region and custo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h 0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0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-mode service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84560" y="5948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e upside potential from i-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520" y="5396040"/>
            <a:ext cx="83829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on hold, since Docomo is asking for Doja1.5 -&gt; AI: Kerstin Lohman, 03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Klebsch Wolfgang</cp:lastModifiedBy>
  <dcterms:modified xsi:type="dcterms:W3CDTF">2004-12-02T15:00:13Z</dcterms:modified>
  <cp:revision>97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8356067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